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26.png" ContentType="image/png"/>
  <Override PartName="/ppt/media/image17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27C6B-6F9D-402D-A781-556C8F988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D243A-A62D-41B3-8D80-38D904CCA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3A90A-05A8-4B35-A818-1A9DCC6DF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E729E-51D3-408F-9AAE-53D26DCB5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82ACB-BD5F-4C06-81EB-2F932AEEE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25E56-DA13-4305-AD9C-6F3FC3389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78345-1B58-4505-9B54-DA9F9CC51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78966-C904-411E-AD62-1B7D6E271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B8026-FABF-4FBA-ADE4-F065FBD99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5CAEF-BB4C-40A3-832C-E1C65EABB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21E80-7DC0-4159-80A8-F1A5C126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50158-55EF-4E44-89FD-459AEB4B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EEE6A-3567-425B-974D-F23B3706BFD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КС РФ рассмотрит дело о взимании платы за загрязнение окружающей среды"/>
          <p:cNvPicPr/>
          <p:nvPr/>
        </p:nvPicPr>
        <p:blipFill>
          <a:blip r:embed="rId1"/>
          <a:stretch/>
        </p:blipFill>
        <p:spPr>
          <a:xfrm>
            <a:off x="0" y="0"/>
            <a:ext cx="9083520" cy="68706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6960" y="41144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e5e5ff"/>
                </a:solidFill>
                <a:latin typeface="Garamond"/>
              </a:rPr>
              <a:t>Загрязнение окружающей среды, виды, классификации</a:t>
            </a:r>
            <a:endParaRPr b="1" lang="en-US" sz="55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e5e5ff"/>
                </a:solidFill>
                <a:latin typeface="Garamond"/>
              </a:rPr>
              <a:t>Классификация по системному подходу</a:t>
            </a:r>
            <a:br>
              <a:rPr sz="3300"/>
            </a:b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25560" y="685800"/>
          <a:ext cx="8762760" cy="6046920"/>
        </p:xfrm>
        <a:graphic>
          <a:graphicData uri="http://schemas.openxmlformats.org/drawingml/2006/table">
            <a:tbl>
              <a:tblPr/>
              <a:tblGrid>
                <a:gridCol w="1803240"/>
                <a:gridCol w="3763800"/>
                <a:gridCol w="3195720"/>
              </a:tblGrid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Загрязн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Характеристи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име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219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Биоценотическое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Воздействия, вызывающие нарушение в составе и структуре популяций живых организмов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ерепромысел, нерегулируемый отлов, отстрел животных, интродукция, акклиматизац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657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тациально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деструктивно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тация – место обитания, деструкция – разрушение: воздействие, приводящее к нарушению и преобразованию ландшафтов и экосистем в процессе природопользова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ырубка лесов, эрозия почв, урбанизация, осушение болот, мелиоративные работы, зарегулирование водотоков и пр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e5e5ff"/>
                </a:solidFill>
                <a:latin typeface="Garamond"/>
              </a:rPr>
              <a:t>Классификация по системному подходу</a:t>
            </a:r>
            <a:br>
              <a:rPr sz="3300"/>
            </a:b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52280" y="990720"/>
          <a:ext cx="8763120" cy="5127480"/>
        </p:xfrm>
        <a:graphic>
          <a:graphicData uri="http://schemas.openxmlformats.org/drawingml/2006/table">
            <a:tbl>
              <a:tblPr/>
              <a:tblGrid>
                <a:gridCol w="2068560"/>
                <a:gridCol w="3498840"/>
                <a:gridCol w="3195720"/>
              </a:tblGrid>
              <a:tr h="792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Загрязне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Характеристика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имер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2772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нгредиентное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Совокупность веществ, количественно или качественно чуждых естественным биогеоценозам.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Бытовые стоки, ядохимикаты, удобрения, продукты сгорания, мусор и т.д.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2376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араметрическое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зменение качественных параметров окружающей природной среды.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Шумовое, тепловое, световое, радиационное, электромагнитное.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5e5ff"/>
                </a:solidFill>
                <a:latin typeface="Garamond"/>
              </a:rPr>
              <a:t>Непосредственно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i="1" lang="ru-RU" sz="4400" spc="-1" strike="noStrike">
                <a:solidFill>
                  <a:srgbClr val="e5e5ff"/>
                </a:solidFill>
                <a:latin typeface="Garamond"/>
              </a:rPr>
              <a:t>объектами загрязнения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532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являются основные компоненты экосистемы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атмосфера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ода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чв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9" name="Picture 2" descr="Фотография Воздух, вода, земля из раздела природа 1549728 - фото.сайт - Photosight.ru"/>
          <p:cNvPicPr/>
          <p:nvPr/>
        </p:nvPicPr>
        <p:blipFill>
          <a:blip r:embed="rId1"/>
          <a:srcRect l="4233" t="5397" r="6163" b="3764"/>
          <a:stretch/>
        </p:blipFill>
        <p:spPr>
          <a:xfrm>
            <a:off x="2362320" y="2274840"/>
            <a:ext cx="678168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Опосредствованные объекты загрязнения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320" y="1523520"/>
            <a:ext cx="86868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оставляющие биогеоценоза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астения; животные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грибы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микроорганизм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2" name="Picture 2" descr="&quot;Гриб:это животное или растение?"/>
          <p:cNvPicPr/>
          <p:nvPr/>
        </p:nvPicPr>
        <p:blipFill>
          <a:blip r:embed="rId1"/>
          <a:stretch/>
        </p:blipFill>
        <p:spPr>
          <a:xfrm>
            <a:off x="0" y="3632040"/>
            <a:ext cx="2743200" cy="3225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Животные - 824067 на Sibnet"/>
          <p:cNvPicPr/>
          <p:nvPr/>
        </p:nvPicPr>
        <p:blipFill>
          <a:blip r:embed="rId2"/>
          <a:srcRect l="0" t="-283" r="0" b="10387"/>
          <a:stretch/>
        </p:blipFill>
        <p:spPr>
          <a:xfrm>
            <a:off x="3276720" y="2900520"/>
            <a:ext cx="5868720" cy="39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Основные антропогенные загрязнител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- вещества, которые выбрасывающие промышленными предприятиями;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- нефть и нефтепродукты;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- пестициды;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- минеральные удобрения;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- шумы от производств, транспорта;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- ионизирующее излучение;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- вибрации;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- светло тепловые влияния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Физические (энергетические) виды загрязнений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3760" y="1676160"/>
            <a:ext cx="86868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Физическим загрязнением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азывают загрязнения, возникающие с изменением физических параметров среды:  тепловых, световых, электромагнитных, акустических, радиационных и др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8" name="Picture 2" descr="Защита жилища и рабочего помещения от шума"/>
          <p:cNvPicPr/>
          <p:nvPr/>
        </p:nvPicPr>
        <p:blipFill>
          <a:blip r:embed="rId1"/>
          <a:stretch/>
        </p:blipFill>
        <p:spPr>
          <a:xfrm>
            <a:off x="4191120" y="3548160"/>
            <a:ext cx="49528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228600" y="3808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имером может служить 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тепловое загрязнение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, которое является результатом повышения температуры среды в связи с промышленными выбросами теплой воды, потоков нагретого воздуха, дымов, газов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Тепловое воздействие может быть вторичным, как результат изменения химического состава среды (парниковый эффект), который возникает в результате антропогенного загрязнения воздуха углекислым газом, метаном, фтор-хлоруглеродами, которые пропускают солнечные лучи, но задерживают тепловое излучение поверхности Земли, тем самым, вызывая повышение температуры атмосфер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169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азвитие промышленности приводит к 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акустическому загрязнению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среды в виде повышения  естественного уровня  шума и отклонения от нормального состояния звуковых характеристик (силы звука, периодичности). Практически любые звуки, возникающие не из природных источников и к которым живые организмы не адаптированы в течение эволюции, рассматриваются как антропогенное шумовое загрязнени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Шум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6360" y="12193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- это волновое колебание упругой среды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С физической точки зрения шум – это беспорядочное сочетание звуков различной частоты и интенсивности, отрицательно воздействующее на любые живые организмы, но в наибольшей степени на человека, вызывающее повышенную утомляемость, снижение умственной активности, производительности труда, вызывающее соматические и психические заболевания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Уровень шума можно характеризовать интенсивностью звука - и принято измерять в относительных единицах – децибелах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Физико-биологическая адаптация к шуму невозможна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римерные уровни шума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140 дБ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– Болевые ощущен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130 дБ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– раскаты гром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110 дБ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– Оркестр поп-музык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100 дБ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– Тяжелый грузови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70 дБ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– Салон легкового автомобил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50 дБ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– Разговорная реч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10 -20 дБ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- Шепо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2-3 дБ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– Зимний лес в безветренную погод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6" descr="2/3 жителей Татарстана проживает в очень загрязнённых городах :: KazanFirst - новости Татарстана, Казань, Набережные Челны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514"/>
                </a:solidFill>
                <a:latin typeface="Garamond"/>
              </a:rPr>
              <a:t>Загрязнение окружающей среды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-360" y="4114440"/>
            <a:ext cx="89917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- это привнесение в среду или возникновение в ней новых  (обычно не характерных для неё) химических, физических, биологических или информационных факторов, или превышение естественного уровня содержания данных факторов в среде, приводящих к негативным последствиям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ибрация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–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ложные колебания в механических системах, которые передаются через грунт и воспринимаются при контакте с вибрирующим телом, при частоте 1 – 100 Гц они воспринимаются как сотрясения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ибрация может измеряться с помощью как абсолютных,  так и относительных величин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Абсолютные параметры – вибросмещение, виброскорость, виброускорение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тносительная величина – уровень виброскорости в децибелах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Основные источники вибрации: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640" y="914400"/>
            <a:ext cx="8686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технологическое оборудование ударного действия (молоты, прессы)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мощные энергетические установки (насосы, компрессоры, двигатели)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ельсовый транспорт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метрополитен неглубокого залегани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9" name="Picture 4" descr="В верхах: Новости Екатеринбурга: Екатеринбург Он-Лайн"/>
          <p:cNvPicPr/>
          <p:nvPr/>
        </p:nvPicPr>
        <p:blipFill>
          <a:blip r:embed="rId1"/>
          <a:stretch/>
        </p:blipFill>
        <p:spPr>
          <a:xfrm>
            <a:off x="3733920" y="3792600"/>
            <a:ext cx="5410080" cy="30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52280" y="3808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ибрация распространяется по грунту и достигает фундаментов общественных и жилых зданий, которые могут разрушающе действовать на различные конструкции и сооружения. Однако они затухают в грунте примерно с темпом 1 дБ/мин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2" descr="Tatra trams Picture Gallery - Photo Gallery - Images"/>
          <p:cNvPicPr/>
          <p:nvPr/>
        </p:nvPicPr>
        <p:blipFill>
          <a:blip r:embed="rId1"/>
          <a:srcRect l="0" t="7000" r="0" b="21517"/>
          <a:stretch/>
        </p:blipFill>
        <p:spPr>
          <a:xfrm>
            <a:off x="0" y="2678040"/>
            <a:ext cx="9144000" cy="41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9360" y="152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Естественное магнитное поле Земли, напряженность которого увеличивается с широтой, и региональные аномалии этого поля в местах залежей железной руды являются 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естественными магнитными полями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За последние несколько десятилетий сформировался новый фактор окружающей среды 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– электромагнитные поля  (ЭМП) радичастот антропогенного происхождения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3" name="Picture 2" descr="Магнитное поле Земли. - 25 Декабря 2013 - Blog - Dpogum"/>
          <p:cNvPicPr/>
          <p:nvPr/>
        </p:nvPicPr>
        <p:blipFill>
          <a:blip r:embed="rId1"/>
          <a:stretch/>
        </p:blipFill>
        <p:spPr>
          <a:xfrm>
            <a:off x="4876920" y="3257640"/>
            <a:ext cx="4267080" cy="3600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wisaev: Поменяются ли Полюса Земли?"/>
          <p:cNvPicPr/>
          <p:nvPr/>
        </p:nvPicPr>
        <p:blipFill>
          <a:blip r:embed="rId2"/>
          <a:stretch/>
        </p:blipFill>
        <p:spPr>
          <a:xfrm>
            <a:off x="0" y="3249720"/>
            <a:ext cx="4495680" cy="35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e5e5ff"/>
                </a:solidFill>
                <a:latin typeface="Garamond"/>
              </a:rPr>
              <a:t>Основные источники электромагнитных полей радиочастот</a:t>
            </a: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0160" y="1371600"/>
            <a:ext cx="5085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адиотехнические объекты (РТО)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- телевизионные и радиолокационные станции (РЛС)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термические цеха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екоторые технологические установк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Picture 2" descr="Природные источники электромагнитных полей"/>
          <p:cNvPicPr/>
          <p:nvPr/>
        </p:nvPicPr>
        <p:blipFill>
          <a:blip r:embed="rId1"/>
          <a:stretch/>
        </p:blipFill>
        <p:spPr>
          <a:xfrm>
            <a:off x="5181480" y="1317600"/>
            <a:ext cx="39625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6868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апряженность ЭМП возрастает особенно резко вблизи ЛЭП, радио- и телестанций, средств радиолокации и радиосвязи ( в том числе мобильной и спутниковой), различных энергетических и энергоемких установок, термических цехов и участков (зонах, примыкающих к промышленным предприятиям), городского транспорта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Picture 2" descr="Сбор электроэнергии из окружающей средыАгрегатор IT новостей Crowler-pcworld Агрегатор IT новостей Crowler-pcworld"/>
          <p:cNvPicPr/>
          <p:nvPr/>
        </p:nvPicPr>
        <p:blipFill>
          <a:blip r:embed="rId1"/>
          <a:stretch/>
        </p:blipFill>
        <p:spPr>
          <a:xfrm>
            <a:off x="3809880" y="3289320"/>
            <a:ext cx="533412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адиационное загрязнение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277640"/>
            <a:ext cx="8686800" cy="48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озникает в результате действия ионизирующей радиации (излучения), а радиоактивное – в результате превышения уровня естественного содержания радиоактивных веществ в окружающей среде. Радиационное и радиоактивное загрязнения вызывают превышение                                                                  радиационного фона                                                    Земли, к которому все                                                   живые организмы                                         адаптированы                                                                   в ходе эволюции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Picture 2" descr="Радиация и здоровье человека - Фото 13013/9"/>
          <p:cNvPicPr/>
          <p:nvPr/>
        </p:nvPicPr>
        <p:blipFill>
          <a:blip r:embed="rId1"/>
          <a:stretch/>
        </p:blipFill>
        <p:spPr>
          <a:xfrm>
            <a:off x="4191120" y="3540240"/>
            <a:ext cx="495288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457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евышение нормативов может вызвать серьезные изменения в окружающей среде и организме человека. Наиболее опасным последствием радиационного загрязнения является 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мутагенный эффект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Мутации передаются в поколениях и могут вызвать стойкие изменения в биосфер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Picture 2" descr="Техника кармических влияний. Продолжение"/>
          <p:cNvPicPr/>
          <p:nvPr/>
        </p:nvPicPr>
        <p:blipFill>
          <a:blip r:embed="rId1"/>
          <a:srcRect l="0" t="0" r="0" b="11303"/>
          <a:stretch/>
        </p:blipFill>
        <p:spPr>
          <a:xfrm>
            <a:off x="4343400" y="3638520"/>
            <a:ext cx="4800600" cy="32004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СОТВОРЕНИЕ ИЛИ ИСТОРИЧЕСКАЯ ЭВОЛЮЦИЯ. - Страница 79"/>
          <p:cNvPicPr/>
          <p:nvPr/>
        </p:nvPicPr>
        <p:blipFill>
          <a:blip r:embed="rId2"/>
          <a:srcRect l="5732" t="0" r="0" b="0"/>
          <a:stretch/>
        </p:blipFill>
        <p:spPr>
          <a:xfrm>
            <a:off x="-1440" y="3638520"/>
            <a:ext cx="405432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Ионизирующее излучение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86868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–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это вид излучения, взаимодействие которого со средой  приводит к образованию ионов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4" descr="Два основных типа радиации Излучение Частиц -Альфа частицы Бета частицы Электромагнитное излучение Радиоволны Микроволны Ультраф"/>
          <p:cNvPicPr/>
          <p:nvPr/>
        </p:nvPicPr>
        <p:blipFill>
          <a:blip r:embed="rId1"/>
          <a:stretch/>
        </p:blipFill>
        <p:spPr>
          <a:xfrm>
            <a:off x="914400" y="2324160"/>
            <a:ext cx="7543800" cy="45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e5e5ff"/>
                </a:solidFill>
                <a:latin typeface="Garamond"/>
              </a:rPr>
              <a:t>Основные виды ионизирующих излучений:</a:t>
            </a:r>
            <a:br>
              <a:rPr sz="3300"/>
            </a:b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76212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α- частицы – ядра гелия, несущие два элементарных положительных заряда, представляют главную опасность при попадании радионуклидов внутрь организма;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Picture 2" descr="http://fr.novopress.info/wp-content/uploads/2012/05/Radio-activit%C3%A9.jpg"/>
          <p:cNvPicPr/>
          <p:nvPr/>
        </p:nvPicPr>
        <p:blipFill>
          <a:blip r:embed="rId1"/>
          <a:stretch/>
        </p:blipFill>
        <p:spPr>
          <a:xfrm>
            <a:off x="1219320" y="2422440"/>
            <a:ext cx="647676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e5e5ff"/>
                </a:solidFill>
                <a:latin typeface="Garamond"/>
              </a:rPr>
              <a:t>Классификация по причине загрязнения</a:t>
            </a:r>
            <a:br>
              <a:rPr sz="3300"/>
            </a:b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0" y="685800"/>
          <a:ext cx="9144000" cy="6172200"/>
        </p:xfrm>
        <a:graphic>
          <a:graphicData uri="http://schemas.openxmlformats.org/drawingml/2006/table">
            <a:tbl>
              <a:tblPr/>
              <a:tblGrid>
                <a:gridCol w="798480"/>
                <a:gridCol w="1768680"/>
                <a:gridCol w="2806560"/>
                <a:gridCol w="3770280"/>
              </a:tblGrid>
              <a:tr h="73188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Загрязн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Характеристика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                      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имер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29220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Естественно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Возникает в результате природных процессов, катастрофических причин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ыльные бури, вулканический пепел, пожары от молний, продукты выветривания, морская и космическая пыль, разложение организмов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292644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Антроп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генно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Промыш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ленно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озникают в результате деятельности человека, в т. ч. их прямого или косвенного влияния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Энергетика, металлургия, химическая, нефтяная промышленность, цементная промышленность и др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73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Бытово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топление, транспорт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e5e5ff"/>
                </a:solidFill>
                <a:latin typeface="Garamond"/>
              </a:rPr>
              <a:t>Основные виды ионизирующих излучений:</a:t>
            </a:r>
            <a:br>
              <a:rPr sz="3300"/>
            </a:b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89917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β- частицы – ядерные частицы, близкие по физической природе к электронам, возникают при радиоактивном распаде и сразу же излучаются, опасны в основном при попадании радионуклидов на кожные покровы и внутрь организма;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2" descr="1.4 Радиоактивность и ядерная энергия Науколандия"/>
          <p:cNvPicPr/>
          <p:nvPr/>
        </p:nvPicPr>
        <p:blipFill>
          <a:blip r:embed="rId1"/>
          <a:stretch/>
        </p:blipFill>
        <p:spPr>
          <a:xfrm>
            <a:off x="0" y="2895480"/>
            <a:ext cx="91440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e5e5ff"/>
                </a:solidFill>
                <a:latin typeface="Garamond"/>
              </a:rPr>
              <a:t>Основные виды ионизирующих излучений:</a:t>
            </a:r>
            <a:br>
              <a:rPr sz="3300"/>
            </a:b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1920" y="761760"/>
            <a:ext cx="899172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γ  - кванты – самые коротковолновые электромагнитные излучения, которые образуются в ходе ядерных реакций и при распаде осколков деления, близки к рентгеновским лучам, но имеют более короткую длину волны, опасны при любой форме воздействия;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Picture 2" descr="Alpha Beta Gamma Radiation Symbols"/>
          <p:cNvPicPr/>
          <p:nvPr/>
        </p:nvPicPr>
        <p:blipFill>
          <a:blip r:embed="rId1"/>
          <a:stretch/>
        </p:blipFill>
        <p:spPr>
          <a:xfrm>
            <a:off x="4572000" y="2525760"/>
            <a:ext cx="4572000" cy="43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e5e5ff"/>
                </a:solidFill>
                <a:latin typeface="Garamond"/>
              </a:rPr>
              <a:t>Основные виды ионизирующих излучений:</a:t>
            </a:r>
            <a:br>
              <a:rPr sz="3300"/>
            </a:b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899172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n</a:t>
            </a: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- нейтроны – вылетают из ядер атомов при реакциях деления и синтеза, проникают в биоткань на большую глубину, с нейтронным потоком можно встретиться только при ядерном взрыве или работающем ядерном реакторе, он не возникает при радиоактивном распаде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2" descr="NRC: Radiation Basics"/>
          <p:cNvPicPr/>
          <p:nvPr/>
        </p:nvPicPr>
        <p:blipFill>
          <a:blip r:embed="rId1"/>
          <a:stretch/>
        </p:blipFill>
        <p:spPr>
          <a:xfrm>
            <a:off x="1219320" y="3200400"/>
            <a:ext cx="6730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адиоактивность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686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–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амопроизвольное превращение неустойчивого нуклида в другой нуклид, сопровождающееся испусканием ионизирующих излучени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33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Главной характеристикой степени опасности является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 доза излучен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33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2" descr="Физические основы. Радиоактивность деления"/>
          <p:cNvPicPr/>
          <p:nvPr/>
        </p:nvPicPr>
        <p:blipFill>
          <a:blip r:embed="rId1"/>
          <a:stretch/>
        </p:blipFill>
        <p:spPr>
          <a:xfrm>
            <a:off x="4114800" y="3086280"/>
            <a:ext cx="502920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52280" y="3808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Garamond"/>
              </a:rPr>
              <a:t>Экспозиционная доза – 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количество γ – излучения. Экспозиционная доза характеризует потенциальную опасность γ -излучения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Garamond"/>
              </a:rPr>
              <a:t>Поглощенная доза –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 количество энергии любого вида излучения, поглощенное в единице массы вещества. Это физическая доза излучения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Garamond"/>
              </a:rPr>
              <a:t>Эквивалентная доза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 – количество энергии любого вида излучения, поглощенное в единице массы вещества с учетом качества излучения. Эта доза не может быть измерена, а должна быть рассчитана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Фоновое радиоактивное излучение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кладывается из 3 групп факторов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Схема 1" descr=""/>
          <p:cNvPicPr/>
          <p:nvPr/>
        </p:nvPicPr>
        <p:blipFill>
          <a:blip r:embed="rId1"/>
          <a:stretch/>
        </p:blipFill>
        <p:spPr>
          <a:xfrm>
            <a:off x="-6480" y="1298520"/>
            <a:ext cx="9163080" cy="55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Биологическое загрязнение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81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Биологическое загрязнение ОС подразделяется на биотическое и (биогенное) и микробное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81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 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биотическому загрязнению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относят распространение в окружающей среде биогенных веществ – выделений сельскохозяйственных животных с ферм и индивидуальных хозяйств, выбросов предприятий, производящих определенные виды продовольствия (мясокомбинатов, молокозаводов, пивзаводов, предприятий микробиологического синтеза (БВК)), предприятий, производящих антибиотики, а также загрязнение трупами животных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Биологическое загрязнение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Биотическое загрязнений может привести и часто приводит к нарушению процессов самоочищения воды и почвы, вторгаясь в естественный круговорот веществ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1" name="Picture 2" descr="Live and let live - WPP - 2010"/>
          <p:cNvPicPr/>
          <p:nvPr/>
        </p:nvPicPr>
        <p:blipFill>
          <a:blip r:embed="rId1"/>
          <a:stretch/>
        </p:blipFill>
        <p:spPr>
          <a:xfrm>
            <a:off x="2362320" y="2527200"/>
            <a:ext cx="6783120" cy="43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Микробное загрязнение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озникает вследствие массового размножения микроорганизмов в антропогенных субстратах или в средах, измененных в ходе хозяйственной деятельности человека. В результате изменения субстратов ранее безвредные микроорганизмы могут приобретать патогенные свойства или                                                  способность подавлять                                                         другие микроорганизмы                                                       в сообществах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4" name="Picture 2" descr="32 современных технологических достижения, которые изменят наше будущее. Часть 3 - Курилка"/>
          <p:cNvPicPr/>
          <p:nvPr/>
        </p:nvPicPr>
        <p:blipFill>
          <a:blip r:embed="rId1"/>
          <a:stretch/>
        </p:blipFill>
        <p:spPr>
          <a:xfrm>
            <a:off x="5486400" y="3548160"/>
            <a:ext cx="369396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e5e5ff"/>
                </a:solidFill>
                <a:latin typeface="Garamond"/>
              </a:rPr>
              <a:t>Классификация видов загрязнения окружающей среды (ОС)</a:t>
            </a:r>
            <a:br>
              <a:rPr sz="3500"/>
            </a:br>
            <a:endParaRPr b="1" lang="en-US" sz="35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по физико-химическим параметрам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(механические, физические (энергетические), химические и биологические)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по воздействию на компоненты ОС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(выбросы в атмосферу, твердые отходы и сточные воды)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по токсичности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(токсичные и нетоксичные)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по массе или концентрации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образующихся загрязняющих веществ (малотоннажные и крупнотоннажные, концентрированные и разбавленные)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по реакционной способности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(химически активные и инертные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e5e5ff"/>
                </a:solidFill>
                <a:latin typeface="Garamond"/>
              </a:rPr>
              <a:t>Классификация загрязнений ОС по физико-химическим параметрам</a:t>
            </a:r>
            <a:br>
              <a:rPr sz="3500"/>
            </a:br>
            <a:endParaRPr b="1" lang="en-US" sz="35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0" y="1219320"/>
          <a:ext cx="8915400" cy="5646600"/>
        </p:xfrm>
        <a:graphic>
          <a:graphicData uri="http://schemas.openxmlformats.org/drawingml/2006/table">
            <a:tbl>
              <a:tblPr/>
              <a:tblGrid>
                <a:gridCol w="2228760"/>
                <a:gridCol w="2229120"/>
                <a:gridCol w="2400120"/>
                <a:gridCol w="2057400"/>
              </a:tblGrid>
              <a:tr h="366120"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Загрязнения О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еханическо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Химическо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Физическо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(энергетическое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Биологическое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438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ылевые частицы в атмосфере; твердые частицы, различные предметы в воде и почв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Газообразные, жидкие и твердые химические соединения и элементы, вступающие в реакцию с компонентами ОС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епло, шум, вибрации, ультразвук, видимые инфракрасные и УФ части спектра, электромагнитные поля, ионизирующие излуче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иды организмов, появившиеся при участие человека и наносящие вред ему самому и живой природ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Физические загрязнения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- это изменения тепловых, электрических, радиационных, световых полей в естественной среде, шумы, вибрации, гравитационные силы, вызванные человеком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3" name="Picture 2" descr="http://img-2003-12.photosight.ru/04/359962.jpg"/>
          <p:cNvPicPr/>
          <p:nvPr/>
        </p:nvPicPr>
        <p:blipFill>
          <a:blip r:embed="rId1"/>
          <a:stretch/>
        </p:blipFill>
        <p:spPr>
          <a:xfrm>
            <a:off x="3429000" y="2592360"/>
            <a:ext cx="5711760" cy="42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Механические загрязнения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35816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- это разные твердые частицы и предметы (выброшенные как непригодные, сработанные, изъятые из потребления)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6" name="Picture 2" descr="Выносить мусор опасно Культура и Наука E-News: новости Украины и Мира"/>
          <p:cNvPicPr/>
          <p:nvPr/>
        </p:nvPicPr>
        <p:blipFill>
          <a:blip r:embed="rId1"/>
          <a:stretch/>
        </p:blipFill>
        <p:spPr>
          <a:xfrm>
            <a:off x="3733920" y="1336680"/>
            <a:ext cx="5410080" cy="55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Химические загрязнения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8686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- тверди, газообразные и жидкие вещества, химические элементы и соединения искусственного происхождения, которые поступают, - в биосферу, в нарушение установлены природой процессы круговорота веществ и энерги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9" name="Picture 2" descr="Pollution Oilfield Mobile News"/>
          <p:cNvPicPr/>
          <p:nvPr/>
        </p:nvPicPr>
        <p:blipFill>
          <a:blip r:embed="rId1"/>
          <a:stretch/>
        </p:blipFill>
        <p:spPr>
          <a:xfrm>
            <a:off x="3255840" y="2890800"/>
            <a:ext cx="58770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Биологические загрязнения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- разные организмы, которые появились благодаря жизнедеятельности человечества, - бактериологическое оружие, новые вирусы (возбудители ВИЧ, болезни легионеров, эпидемий, других болезней, а также катастрофическое размножение                                        растений или животных,                                   переселенных из одной среды                                           в другое человеком                                                          или случайно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2" name="Picture 2" descr="Появился неуязвимый компьютерный вирус / Новости software / 3DNews - Daily Digital Digest"/>
          <p:cNvPicPr/>
          <p:nvPr/>
        </p:nvPicPr>
        <p:blipFill>
          <a:blip r:embed="rId1"/>
          <a:stretch/>
        </p:blipFill>
        <p:spPr>
          <a:xfrm>
            <a:off x="5257800" y="2938320"/>
            <a:ext cx="388620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ксана</cp:lastModifiedBy>
  <dcterms:modified xsi:type="dcterms:W3CDTF">2014-09-13T13:14:45Z</dcterms:modified>
  <cp:revision>4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